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dt" idx="37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2759421E-1D14-4F31-98C3-F22EBBA346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1D3288EC-7B59-4960-AD5E-1A0F088D236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0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43727673-90A7-40D7-94DC-D7386760C57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3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E5C1EB82-8145-4A97-804F-1B2F8E232E5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6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9DBE07EF-6A1E-485A-B003-A34EE86704E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9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C6DD08FE-A833-4E71-B307-2D9A5E75DA6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2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1EC863FF-9129-4DA7-8766-3D7D0377A6C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5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2519BB1F-85F5-4FD9-9186-D1E6D6F8730B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02063892-D1E8-4D63-BFE7-5C9CD5ED889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19400" y="8918640"/>
            <a:ext cx="3079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4640"/>
                <a:tab algn="l" pos="809640"/>
                <a:tab algn="l" pos="1216080"/>
                <a:tab algn="l" pos="1622520"/>
                <a:tab algn="l" pos="2028960"/>
                <a:tab algn="l" pos="2433600"/>
                <a:tab algn="l" pos="2840040"/>
                <a:tab algn="l" pos="3246480"/>
                <a:tab algn="l" pos="3649680"/>
                <a:tab algn="l" pos="4057560"/>
                <a:tab algn="l" pos="4464000"/>
                <a:tab algn="l" pos="4867200"/>
                <a:tab algn="l" pos="5275440"/>
                <a:tab algn="l" pos="5681520"/>
                <a:tab algn="l" pos="6086520"/>
                <a:tab algn="l" pos="6491160"/>
                <a:tab algn="l" pos="6899400"/>
                <a:tab algn="l" pos="7305840"/>
                <a:tab algn="l" pos="7709040"/>
                <a:tab algn="l" pos="811692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02080E64-6604-4C0C-A42A-4593B5ACB2D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4" name="Text Box 1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D5A-647D-4357-964C-67CADB24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878-2E82-47E4-A72C-9B2A986A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B4009-52AB-4966-BD9D-E6D0588E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A1E7E-38C0-4F28-9D42-8DD28B19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F987D-17E1-4B00-868D-06F4C6C0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CD83B-9C4C-4B3E-A70B-25F0FA71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2A934-131B-44DC-A7C8-7C6F40B7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B366A-EA4E-48C6-B3E5-456A0754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B9363-66CA-478A-9E79-947FA4A2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1238C-9EE2-4210-9796-36454CED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67498-1DC9-497F-BCE2-0CB6E166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CC20B-6E5D-4FA2-B13E-4C3C467D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49B-A3CF-4168-81B6-D508060F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5BEA5-A8F8-46D9-AA4E-E4314F25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79624-2161-4E2D-AE44-802AFFE3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243A8-A798-4DF8-916D-12CD5B4A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685BD-B3ED-4F9F-A788-CD1108C5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68D3F-C2BA-4715-A285-224FB5DE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37B46-71CD-40B4-A894-CA3052C6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9B812-F38B-43A0-B1C6-DE6760FF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9F029-1CD5-4FEE-8F7C-44B260EB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62E90-4FB9-4BF3-85DC-6188B83B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28D16-C8B8-44F3-9B46-2B6BAEF8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9EE-41D6-46B1-97A5-786CDE60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471D4-31A5-40BB-8B63-A407FEEB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8DF16-2078-4492-93C8-09689704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B0103-11E2-42C2-BC78-1C7B90EE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E41D0-C659-414C-B497-FF5267D3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2E229-95E5-4330-AED4-7275E85A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1F98D-FB80-4F96-8F6F-9C6ED4EF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ECC46-5D30-45AC-AEF5-DDB7791C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42A8D-8917-4287-A82D-4F7D2103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AFCDE-6330-4925-881C-5CC3C0D3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B33A9-73D4-4FF5-8C3A-3D25DDCC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2020-684A-438D-ADD7-87EA13F6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75F85-47F7-4055-AD06-B09DD17C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65F04-4B5A-4C6D-BF4F-5742831C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ECBEB-35ED-4BFF-A1EE-5C246E93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64B53-3A83-4B94-98E3-780EC204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6977E-7C7A-44EB-A908-46F470D4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64151-07F3-49B2-B33E-3843328B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B3E91-E1E2-4C78-97A4-15A9CEC0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04EFF-D12F-4C24-AC33-4F295B44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C455E-F58D-4EDC-A52D-CD576F9C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6DF2F-E259-4648-B96D-DC1D0172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5CF2-DC3E-46D7-A0E3-A0317A14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74AFE-3161-43B4-A58F-2BFCB6DF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F3108-2980-4560-A2A1-E3560552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3B714-53AC-41DB-8980-19B40F78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6F5F2-60CB-48C1-B88B-4CAC60F5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45C66-DD05-4A13-98A3-7EBF6BC1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321E-B524-4A1D-A208-F8C519FF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BA07-2096-4640-B04C-237DC7E1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DB6E-E88A-4C42-8BFC-E1C8FBFF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D884-2C41-42E3-AA3F-4F972E70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58CD-34FD-46AE-9B2F-22FC91D4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950-99C5-47A3-BA2D-6940375E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466B-ED02-4C1F-9B49-EB07ED46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DA50-4583-415C-9F3E-E43906D8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411A-46B6-463E-864A-0223D0A8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64B3-11F2-4849-B7D4-5FB7721D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B4DA-4DEF-4827-A750-2880C306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687B-1670-4922-9981-920F008D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B01C-C021-491E-969A-CCC7E8BC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B6A3C-6E20-4FC9-BDBD-04F1E5A2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C45E-4A7A-455E-9FDD-A71CCFDA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DE54-186F-4B54-A187-813412EA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D97B-6606-47CD-9B40-B512B27B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26D5-8633-4D8A-B177-CE3A1EFB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88DF-2B43-4F44-BB44-3C389ED1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42EDE-F8F1-40E5-90BD-8C820696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2CD8-9DA4-4621-8878-E6861C6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7714-66FF-4C61-95ED-F6DF6846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A3B1-1E70-49A6-92D8-872F5C5D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6515-3035-435D-8A5C-7D99AA85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35EEE-9422-432A-8FAF-47F2BEF1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F27B2-C1D3-40B3-A7C4-82F90EBC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620E9-A089-4355-9CA5-76DB15AD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0E8C-FC07-45C2-A13E-9EF35DBE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0D168-2E7F-4739-AA55-EA69C323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C0AE2-8803-4F07-9F26-9A592794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9F697-449E-4CE9-BF26-E919A4B9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D847A-90AA-46CE-81DE-55C5558D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B37CB-E3BD-4264-9467-D5F717BD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277E2-A3D8-4E94-89C5-5AD14D9E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3498-3DE5-4890-AA24-AC9D4FB4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80BDA-FBC7-48CE-A9FD-80AEA71F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7EA37-29F9-4F0E-8A7E-BF593C2A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A19A3-5E68-4992-8112-A15FB9C2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256-60E3-4193-A9E4-71EA1790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4554-DB36-4109-AEA5-A1BABA9B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0C7E4-DCD2-4FA9-AE96-3A50DDB4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DA43-7367-4083-B6E6-5AA9BBE7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8851C-6182-4CFB-AD49-62B5CC8F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79B0F-6852-4267-A29A-292A1F16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52272-5129-44A8-B9B1-D8A08B23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E793-BEBD-4B57-BF56-094D4B88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454B3-C825-4B52-83E1-E665511F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24CCF-DD53-416A-9F5D-FF679423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5DA26-E58D-4F78-AF6C-A7AD0669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A03-477C-4F0E-A737-8DCDA12E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28940-10DE-42AE-ACF1-A04BDC73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593A9-DDF2-4562-99E7-1116CB5C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616EA-C2CC-40EA-8A01-77D19BE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7B49E-87B2-48B9-B948-88F22BF6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E11A-361D-4E4F-A7AD-B899F407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C6EED-B460-4C77-B948-67694E90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37766-A75D-4A57-A93F-CAE08E36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8D0EA-4E33-46CE-82F9-97A858C3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982E0-20D4-42FF-9247-0D518B5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2195A-CAB1-494B-99DD-95C5574A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F4D-1999-4CAD-A01A-733DF771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08B52-19BB-4B52-AB11-7E46C519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FDDF9-D18C-47B7-877A-7BD02E97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65C83-B66E-48D0-88E9-294110F3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D42BA-8B0D-4B3A-BA8A-815D5F4B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A4FDF-117A-48D3-8C38-854B6B9B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6CEA6-661F-4AAC-85D0-F2FA0200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B4E58-B2B2-452E-986D-5335F946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A8714-FA9E-47D7-9A9B-A3D86423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08CD6-350B-40E3-A70A-918B6881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A0440-C589-47AA-BAF1-B7E44E1A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921-8C8C-4768-AC6F-5B19BB73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05B93-53D0-47ED-9EFC-2B1C5DE8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EF149-D39A-4F09-B46B-05799B8D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EE2C0-FFA3-4D1A-B23C-2141E7F1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CD217-BAED-4D78-99EF-3953A00E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98B49-AFDB-47BC-A7AD-5D90C88D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BA26A-7718-409D-BFFD-C239C240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71E9B-CB2D-4B8C-965E-DD8DB751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D0890-5D57-4845-B018-E74B482D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1DA03-B938-462D-9921-2DC2850D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61D20-5A20-422D-9BC7-6D77EA9E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17F-37E3-403B-ABD6-A8BD0549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E24B5-3C86-4CD8-AADB-258A9DA4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8A53C-D86B-4741-9952-C0F1EF35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B17AA-3963-40BF-AC1D-EA96CE4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360EE-FD96-4D5D-9626-9473215D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B783E-B824-4671-88DA-070D8D93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31269-67B7-4799-A62B-82DCBF79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DECEC-9D61-4E54-95C5-D486E291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381D1-5818-4605-9D83-DD858D7C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101D4-5293-43A4-85D2-B64F2A04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5317E-9624-424B-A333-F324E230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9586E7-2389-4959-96A7-5053B24BA9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3B77B4-D9EC-4C90-B9DD-E3F8AB93A7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BA62A4-AC9D-4DCB-9F9F-721E062082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370BE7-22DE-4906-B7F9-25F8CA935F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6D3D4D-D408-4F0A-B802-77548C5F2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C48496-2FA7-48D1-9D9B-261E60C41A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3A3BCA-DB79-4259-A96C-628C0497BA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8F5015-48CC-4326-B764-D9E9B87F4C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CEDF31-399F-41FC-9271-9C82A04C3F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900921-0781-4A91-B45F-4FAF1AE89A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5400FA-31A8-49BE-945F-B384C317BF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F52A23-2823-44AA-A682-5041989477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962000" y="2103480"/>
            <a:ext cx="62172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God Rest You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Merry Gentlemen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1567440" y="1417680"/>
            <a:ext cx="702180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God rest you merry Gentlemen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Let nothing you disma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emember Christ our Savio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as born on Christmas da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o save us all from Satan’s pow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hen we were gone astra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2035800" y="1417680"/>
            <a:ext cx="60847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2197440" y="1417680"/>
            <a:ext cx="576144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n Bethlehem, in Jewry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is blessed Babe was bor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laid within a mang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Up on this blessed mor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which His mother Mar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id nothing take in scor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2035800" y="1417680"/>
            <a:ext cx="60847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1649160" y="1417680"/>
            <a:ext cx="685872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From God, our heavenly Father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 blessed angel c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unto certain shepherd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Brought tidings of the s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ow that in Bethlehem was bor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Son of God by name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2035800" y="1417680"/>
            <a:ext cx="60847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439280" y="1417680"/>
            <a:ext cx="727812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shepherds at those tidings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ejoiced much in m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left their flocks a feeding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n tempest, storm and w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nd went to Bethlehem strait-way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Son of God to fin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2035800" y="1417680"/>
            <a:ext cx="60847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horus: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, tidings of comfort and joy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pcwade</cp:lastModifiedBy>
  <dcterms:modified xsi:type="dcterms:W3CDTF">2015-12-05T17:10:36Z</dcterms:modified>
  <cp:revision>1577</cp:revision>
  <dc:subject/>
  <dc:title>Slide 1</dc:title>
</cp:coreProperties>
</file>